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601E-1797-4BAB-94B0-42336ED2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BF3E-1446-460C-8CC2-8C37818B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3D23-1E8C-4667-894D-B76CF8D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4FF5-050F-408E-BE63-46B20AD2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6B5-C5AC-487E-89C7-F3089F9C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D61D-021E-44CC-8C94-1C51483E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ACA3-E2B9-40F7-9D8C-11271933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C6B7-468F-486C-AAA4-847927F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1E2E-AD27-4B9C-9E6D-D081619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9F0D-570A-4409-A016-F8461BE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186-A62B-43D7-841D-20F37D0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7053-BBA4-471E-B553-3D8B2184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3BF9-7086-4BC6-A9EF-005A2B07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33D4-45E5-4DA3-9FED-2863F4E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D5CA-295F-4802-BC4B-BD04B4EC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898D-70CE-4FFC-952F-E25A581D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E1A-9A7E-49A4-85B5-6BDDBE45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A7D9-A9CF-43B0-A76D-20F12DE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7694-B26C-4B29-841A-022B7F2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4E51-39FA-4F19-8ED8-BBD2B2D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DCEB-776D-4CE7-9477-F787E78E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FB31-8478-4176-A26D-9DFB46BF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F007-3A42-420A-9187-9EF0CB9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C206-D05A-440C-80EB-C33CFCD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6F87-7C53-4C7C-A632-CD2BCDD66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F40-8D93-4895-B1F6-B5BE8EC777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зический диктант по теме «Расчет пути и времени движен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0492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159084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1562040" cy="1333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486400" y="2362320"/>
            <a:ext cx="1533600" cy="143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57200" y="4038480"/>
            <a:ext cx="1514520" cy="1390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410080" y="4191120"/>
            <a:ext cx="1571760" cy="15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93600" y="1523160"/>
            <a:ext cx="17672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 = 200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08400" y="1599480"/>
            <a:ext cx="17672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 = 200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83560" y="-720"/>
            <a:ext cx="27561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Проверяе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560" y="-720"/>
            <a:ext cx="29984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Как реш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3080" y="456480"/>
            <a:ext cx="1596600" cy="581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S = v ·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61400" y="532440"/>
            <a:ext cx="1596600" cy="581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S = v ·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480" y="990000"/>
            <a:ext cx="28706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Rounded MT Bold"/>
              </a:rPr>
              <a:t>S = 10 м/c · 20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34360" y="1065960"/>
            <a:ext cx="27774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Rounded MT Bold"/>
              </a:rPr>
              <a:t>S = </a:t>
            </a:r>
            <a:r>
              <a:rPr b="1" i="1" lang="ru-RU" sz="28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 Rounded MT Bold"/>
              </a:rPr>
              <a:t>0 м/c · </a:t>
            </a:r>
            <a:r>
              <a:rPr b="1" i="1" lang="ru-RU" sz="28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 Rounded MT Bold"/>
              </a:rPr>
              <a:t>0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81080" y="1905120"/>
                <a:ext cx="1100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124080" y="2286000"/>
                <a:ext cx="19051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480680" y="3123360"/>
            <a:ext cx="138492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 = 20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58000" y="2057400"/>
                <a:ext cx="1030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772400" y="2666880"/>
                <a:ext cx="1371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068520" y="3199680"/>
            <a:ext cx="11865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 = 5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1981080" y="4038480"/>
            <a:ext cx="1409760" cy="714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6934320" y="4267080"/>
            <a:ext cx="1676160" cy="75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781680" y="3657600"/>
                <a:ext cx="12812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985080" y="4876920"/>
                <a:ext cx="21096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0</m:t>
                        </m:r>
                        <m:r>
                          <m:t xml:space="preserve">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3581280"/>
                <a:ext cx="12812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971800" y="4952880"/>
                <a:ext cx="24462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0</m:t>
                        </m:r>
                        <m:r>
                          <m:t xml:space="preserve">м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464840" y="4876200"/>
            <a:ext cx="18648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 =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/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8240" y="5562000"/>
            <a:ext cx="18648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 =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/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ставляем себе оценк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правильно решенное задание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правильно решенных задания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правильно решенных задания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ценка «3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ценка «4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Оценка «5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09-10-16T11:36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